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D04F0-16C0-4336-A649-0F865380B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FDA07-63F7-4BE4-9C76-72EDB95B9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9C46F-D365-42FB-B7F9-F20E10A4A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E1E95-ACC7-489D-BFC9-7B312C4B4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51162-36EC-4A6D-A9F5-4E1AD66A6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22264-00D8-468C-9EB3-384D05B3F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BA2A2-8C9B-437C-82D7-C84C6FF18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39CF3-877D-4DB0-AE82-4B6DB1092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DF0F4-DE30-4C82-95B5-AAF509742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7AD09-8F8E-4698-B003-B26629E66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1A1BE-F1F9-4DF4-B301-639B2EA84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CE4BE-84DB-4A15-A992-9BE0B16FB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251E8-D902-4959-A8A4-9B4581420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01536-5548-4F7C-A35C-96D30A0C6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7FDBA-9EB5-444D-A253-001CCF69C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EA497-21AA-4950-B281-F58E82E67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A5E0F-0E49-43AD-95E9-11CAB9047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B827D-F6DD-46CB-A23D-9A97DFA57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E97CC-B94F-4FF5-95DD-F62B59FA2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EB634-E560-45F7-8D1F-7972F3C80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4F7DE-C9A6-43BB-AAE0-34A0C38CD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F5704-4E9E-45FB-98EF-E987B70A8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5BEAE-6FEE-4B5B-9C5B-126FA18CB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6B4A8-C291-4C88-AED4-C01465E51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52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b2b2b2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c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c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79F9B-E891-4E76-A240-98A32518054D}" type="slidenum"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52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E4DF3-07F9-4751-A8F0-C35A4C152F39}" type="slidenum"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cc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cc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b2b2b2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c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c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52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OUTH KOREA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2057400" y="3124080"/>
            <a:ext cx="4857840" cy="33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52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ffff"/>
                </a:solidFill>
                <a:latin typeface="Arial"/>
              </a:rPr>
              <a:t>MAP</a:t>
            </a: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3657600" y="117360"/>
            <a:ext cx="4267080" cy="674064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609480" y="1676520"/>
            <a:ext cx="2908440" cy="37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52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ffff"/>
                </a:solidFill>
                <a:latin typeface="Arial"/>
              </a:rPr>
              <a:t>Land</a:t>
            </a: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Taebaek Mountains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Yellow Sea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Sea of Japan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Korea Strait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ffffcc"/>
                </a:solidFill>
                <a:uFillTx/>
                <a:latin typeface="Arial"/>
              </a:rPr>
              <a:t>Monsoons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3048120" y="3581280"/>
            <a:ext cx="4038480" cy="302760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4419720" y="990720"/>
            <a:ext cx="3047760" cy="211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52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ffff"/>
                </a:solidFill>
                <a:latin typeface="Arial"/>
              </a:rPr>
              <a:t>Economy</a:t>
            </a: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Manufacturing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Arial"/>
              </a:rPr>
              <a:t>Technology, cars, textiles</a:t>
            </a:r>
            <a:endParaRPr b="0" lang="en-US" sz="26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Natural Resources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Arial"/>
              </a:rPr>
              <a:t>Tungsten, zinc and anthracite</a:t>
            </a:r>
            <a:endParaRPr b="0" lang="en-US" sz="26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Farming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Arial"/>
              </a:rPr>
              <a:t>Rice</a:t>
            </a:r>
            <a:endParaRPr b="0" lang="en-US" sz="2600" spc="-1" strike="noStrike">
              <a:solidFill>
                <a:srgbClr val="ffffcc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Arial"/>
              </a:rPr>
              <a:t>Kimchi</a:t>
            </a:r>
            <a:endParaRPr b="0" lang="en-US" sz="2600" spc="-1" strike="noStrike">
              <a:solidFill>
                <a:srgbClr val="ffffcc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6019920" y="2133720"/>
            <a:ext cx="2000160" cy="178092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4191120" y="838080"/>
            <a:ext cx="2357280" cy="88596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3"/>
          <a:stretch/>
        </p:blipFill>
        <p:spPr>
          <a:xfrm>
            <a:off x="2666880" y="4114800"/>
            <a:ext cx="305748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52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ffff"/>
                </a:solidFill>
                <a:latin typeface="Arial"/>
              </a:rPr>
              <a:t>People</a:t>
            </a: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46.9 Million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Seoul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Christianity, Buddhism, Confucianism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2895480" y="304920"/>
            <a:ext cx="4800600" cy="320040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6705720" y="4419720"/>
            <a:ext cx="1836720" cy="275580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3"/>
          <a:stretch/>
        </p:blipFill>
        <p:spPr>
          <a:xfrm>
            <a:off x="1295280" y="4419720"/>
            <a:ext cx="4038840" cy="22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52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ffff"/>
                </a:solidFill>
                <a:latin typeface="Arial"/>
              </a:rPr>
              <a:t>History</a:t>
            </a: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Korean War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38</a:t>
            </a:r>
            <a:r>
              <a:rPr b="0" lang="en-US" sz="3000" spc="-1" strike="noStrike" baseline="30000">
                <a:solidFill>
                  <a:srgbClr val="ffffcc"/>
                </a:solidFill>
                <a:latin typeface="Arial"/>
              </a:rPr>
              <a:t>th</a:t>
            </a: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 Parallel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Democracy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3505320" y="152280"/>
            <a:ext cx="442260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1T18:04:13Z</dcterms:created>
  <dc:creator> John Doe</dc:creator>
  <dc:description/>
  <dc:language>en-US</dc:language>
  <cp:lastModifiedBy> John Doe</cp:lastModifiedBy>
  <dcterms:modified xsi:type="dcterms:W3CDTF">2008-06-21T19:53:26Z</dcterms:modified>
  <cp:revision>3</cp:revision>
  <dc:subject/>
  <dc:title>SOUTH KOREA</dc:title>
</cp:coreProperties>
</file>